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1FE-CEFE-46B4-A130-2B28C5C6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1F8-5B6C-4054-B098-1B05A95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5E6-A8CD-4CA5-A009-66C9E464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1AF-C515-471B-8C75-048791CB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127-759A-4C2B-A935-90801D0E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A93-1D62-41C1-A2AB-9CCABFD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FDD-C3BA-4581-BC6B-93BD8C7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0A5-3E2E-4535-9F60-5897B7FC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DAC-438B-4D28-B0D6-5B661A8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34F-8286-4029-9C83-A31DD07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200-0332-4726-B36F-C13AC8CE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A6F-64F3-4E6A-B075-386C50D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4B7B-7619-491C-805E-A5ABBEEBD4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52560" y="154080"/>
            <a:ext cx="27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訓練をふりか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-3240" y="5884920"/>
            <a:ext cx="681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あなたは訓練がはじまったときに、どこに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28440" y="6192720"/>
            <a:ext cx="678528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112680" y="73080"/>
            <a:ext cx="11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1052640" y="5805360"/>
            <a:ext cx="1473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63"/>
          <p:cNvSpPr/>
          <p:nvPr/>
        </p:nvSpPr>
        <p:spPr>
          <a:xfrm>
            <a:off x="28440" y="7291440"/>
            <a:ext cx="6785280" cy="260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0" y="13096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4"/>
          <p:cNvSpPr/>
          <p:nvPr/>
        </p:nvSpPr>
        <p:spPr>
          <a:xfrm>
            <a:off x="441360" y="1230480"/>
            <a:ext cx="147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3"/>
          <p:cNvSpPr/>
          <p:nvPr/>
        </p:nvSpPr>
        <p:spPr>
          <a:xfrm>
            <a:off x="5674320" y="989316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44280" y="1689120"/>
            <a:ext cx="671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のチャイム音や放送を、だまって静かに聞く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4"/>
          <p:cNvSpPr/>
          <p:nvPr/>
        </p:nvSpPr>
        <p:spPr>
          <a:xfrm>
            <a:off x="44280" y="2860560"/>
            <a:ext cx="67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のチャイム音を聞いた時、何をしたらよいか考える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4280" y="4913280"/>
            <a:ext cx="67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安全な場所に移動するとき、「お・か・し・も・ち」のルールが守れ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441360" y="221148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106"/>
          <p:cNvSpPr/>
          <p:nvPr/>
        </p:nvSpPr>
        <p:spPr>
          <a:xfrm>
            <a:off x="25560" y="28440"/>
            <a:ext cx="2736720" cy="60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"/>
          <p:cNvSpPr/>
          <p:nvPr/>
        </p:nvSpPr>
        <p:spPr>
          <a:xfrm>
            <a:off x="2492280" y="900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0"/>
          <p:cNvSpPr/>
          <p:nvPr/>
        </p:nvSpPr>
        <p:spPr>
          <a:xfrm>
            <a:off x="2878200" y="79200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み　　     　　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3"/>
          <p:cNvSpPr/>
          <p:nvPr/>
        </p:nvSpPr>
        <p:spPr>
          <a:xfrm>
            <a:off x="5293080" y="23760"/>
            <a:ext cx="130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３　地震対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後学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16"/>
          <p:cNvSpPr/>
          <p:nvPr/>
        </p:nvSpPr>
        <p:spPr>
          <a:xfrm>
            <a:off x="28440" y="1631880"/>
            <a:ext cx="6785280" cy="4129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コネクタ 118"/>
          <p:cNvSpPr/>
          <p:nvPr/>
        </p:nvSpPr>
        <p:spPr>
          <a:xfrm>
            <a:off x="44280" y="2671920"/>
            <a:ext cx="67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0"/>
          <p:cNvSpPr/>
          <p:nvPr/>
        </p:nvSpPr>
        <p:spPr>
          <a:xfrm>
            <a:off x="333360" y="17748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じしんそくほう　　 　 　　　　　　　　      おん         ほうそう　　　　　　　   　　　　　　　しず　　　　     き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0"/>
          <p:cNvSpPr/>
          <p:nvPr/>
        </p:nvSpPr>
        <p:spPr>
          <a:xfrm>
            <a:off x="333360" y="2827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じしんそくほう　  　　                          　  おん          き　   　　　  とき         なに　 　   　　　　　　　　 　　　　　かん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441360" y="329256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0"/>
          <p:cNvSpPr/>
          <p:nvPr/>
        </p:nvSpPr>
        <p:spPr>
          <a:xfrm>
            <a:off x="260280" y="4870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んぜん 　　　ばしょ　 　   　いどう　　　　　　　　　　　　　　　   　　　　　　　　　　　　　　　　　　　　　　　　　　　　　　  　 　        まも　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441360" y="5308560"/>
            <a:ext cx="63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130"/>
          <p:cNvSpPr/>
          <p:nvPr/>
        </p:nvSpPr>
        <p:spPr>
          <a:xfrm>
            <a:off x="44280" y="37116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131"/>
          <p:cNvSpPr/>
          <p:nvPr/>
        </p:nvSpPr>
        <p:spPr>
          <a:xfrm>
            <a:off x="44280" y="4751280"/>
            <a:ext cx="67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"/>
          <p:cNvSpPr/>
          <p:nvPr/>
        </p:nvSpPr>
        <p:spPr>
          <a:xfrm>
            <a:off x="44280" y="3902040"/>
            <a:ext cx="67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慌てずに、自分で考えて、地震から身を守る行動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0"/>
          <p:cNvSpPr/>
          <p:nvPr/>
        </p:nvSpPr>
        <p:spPr>
          <a:xfrm>
            <a:off x="260280" y="3862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わ　　　　　　　　　 　 じぶん　　   かんが　　    　　　     じしん 　       　      み　　　まも　　　こうどう　　　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4"/>
          <p:cNvSpPr/>
          <p:nvPr/>
        </p:nvSpPr>
        <p:spPr>
          <a:xfrm>
            <a:off x="441360" y="430056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-3240" y="6980400"/>
            <a:ext cx="68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その時、どのように身を守りましたか。なぜ、そうしたのです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4"/>
          <p:cNvSpPr/>
          <p:nvPr/>
        </p:nvSpPr>
        <p:spPr>
          <a:xfrm>
            <a:off x="1397160" y="6912000"/>
            <a:ext cx="3268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き　　　　　　　　　　　　　　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52"/>
          <p:cNvSpPr/>
          <p:nvPr/>
        </p:nvSpPr>
        <p:spPr>
          <a:xfrm>
            <a:off x="154080" y="7272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どの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コネクタ 53"/>
          <p:cNvSpPr/>
          <p:nvPr/>
        </p:nvSpPr>
        <p:spPr>
          <a:xfrm>
            <a:off x="69840" y="8569440"/>
            <a:ext cx="674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54"/>
          <p:cNvSpPr/>
          <p:nvPr/>
        </p:nvSpPr>
        <p:spPr>
          <a:xfrm>
            <a:off x="102960" y="8569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08-19T01:16:00Z</cp:lastPrinted>
  <dcterms:modified xsi:type="dcterms:W3CDTF">2017-03-14T05:11:30Z</dcterms:modified>
  <cp:revision>100</cp:revision>
  <dc:subject/>
  <dc:title>スライド 1</dc:title>
</cp:coreProperties>
</file>