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EA5-F3BD-4638-8F41-0EBA7E17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556-E8A0-4D7D-AF36-446E6650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D86-DF57-427C-A3C8-20D3BEF6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070-EEEF-4CBB-BBD9-98025BA2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B81-D08D-4590-A9E8-7F236A89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E87-E574-45A7-8644-F4CE1D1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DD2-7159-4A69-9100-30CE36C8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5EE-197E-42E6-B67B-C8346A8C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1F9-8B90-4A04-A63C-1C3E86DB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C51-5695-430F-9D72-D82011C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D05-E089-4D56-87D8-E69F489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E70-355E-4AB0-8407-69656376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2B4C-3284-426E-8638-5E37ADB337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115920" y="16992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06"/>
          <p:cNvSpPr/>
          <p:nvPr/>
        </p:nvSpPr>
        <p:spPr>
          <a:xfrm>
            <a:off x="44280" y="15840"/>
            <a:ext cx="2060640" cy="63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線コネクタ 118"/>
          <p:cNvSpPr/>
          <p:nvPr/>
        </p:nvSpPr>
        <p:spPr>
          <a:xfrm>
            <a:off x="189000" y="31478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線コネクタ 41"/>
          <p:cNvSpPr/>
          <p:nvPr/>
        </p:nvSpPr>
        <p:spPr>
          <a:xfrm>
            <a:off x="189000" y="42242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51"/>
          <p:cNvSpPr/>
          <p:nvPr/>
        </p:nvSpPr>
        <p:spPr>
          <a:xfrm>
            <a:off x="189000" y="530532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線コネクタ 56"/>
          <p:cNvSpPr/>
          <p:nvPr/>
        </p:nvSpPr>
        <p:spPr>
          <a:xfrm>
            <a:off x="189000" y="6370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線コネクタ 61"/>
          <p:cNvSpPr/>
          <p:nvPr/>
        </p:nvSpPr>
        <p:spPr>
          <a:xfrm>
            <a:off x="189000" y="74484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44280" y="876456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⑧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や地震の揺れを感じた時、自分で考えて自分の身を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コネクタ 67"/>
          <p:cNvSpPr/>
          <p:nvPr/>
        </p:nvSpPr>
        <p:spPr>
          <a:xfrm>
            <a:off x="189000" y="85122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72"/>
          <p:cNvSpPr/>
          <p:nvPr/>
        </p:nvSpPr>
        <p:spPr>
          <a:xfrm>
            <a:off x="189000" y="95774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熊谷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Ver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7"/>
          <p:cNvSpPr/>
          <p:nvPr/>
        </p:nvSpPr>
        <p:spPr>
          <a:xfrm>
            <a:off x="104760" y="4932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4"/>
          <p:cNvSpPr/>
          <p:nvPr/>
        </p:nvSpPr>
        <p:spPr>
          <a:xfrm>
            <a:off x="441360" y="692280"/>
            <a:ext cx="14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565360" y="19368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くみ　　　 ばん　　なま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58"/>
          <p:cNvSpPr/>
          <p:nvPr/>
        </p:nvSpPr>
        <p:spPr>
          <a:xfrm>
            <a:off x="189000" y="8672400"/>
            <a:ext cx="649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　　　　 おん　　　　 　じ   しん　　   ゆ  　      　　かん    　　　 とき     　  じ   ぶん　   かんが               じ　ぶん  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189000" y="28256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"/>
          <p:cNvSpPr/>
          <p:nvPr/>
        </p:nvSpPr>
        <p:spPr>
          <a:xfrm>
            <a:off x="203040" y="275904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189000" y="392112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"/>
          <p:cNvSpPr/>
          <p:nvPr/>
        </p:nvSpPr>
        <p:spPr>
          <a:xfrm>
            <a:off x="203040" y="385452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189000" y="49784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203040" y="491184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44280" y="44402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を聞いた時、何をすればよい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7"/>
          <p:cNvSpPr/>
          <p:nvPr/>
        </p:nvSpPr>
        <p:spPr>
          <a:xfrm>
            <a:off x="204840" y="435780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　　　　  おん　               　  　　　   とき　      なに　　　      　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44280" y="66038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⑥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姿勢を低くし、頭や体を守り、揺れが収まるまでじっと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60"/>
          <p:cNvSpPr/>
          <p:nvPr/>
        </p:nvSpPr>
        <p:spPr>
          <a:xfrm>
            <a:off x="117360" y="651672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  　     お　       　   とき         し   せい　 　 ひく　          　　 あたま　  からだ      まも       　    　ゆ　　　　　 おさ　　  　　　　   　　　　　　　　　　　　　　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44280" y="553716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ものが落ちてくる・倒れてくる・移動してくる場所は危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54"/>
          <p:cNvSpPr/>
          <p:nvPr/>
        </p:nvSpPr>
        <p:spPr>
          <a:xfrm>
            <a:off x="260280" y="5472000"/>
            <a:ext cx="649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お　 　　　　 とき　　　 　 　　 　　  お            　 　　　　　　　 たお                     　　　　  　い どう                         　   ば　しょ　　　き　け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4280" y="768492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⑦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を聞いた時、短い時間で安全な場所へ移動して身を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58"/>
          <p:cNvSpPr/>
          <p:nvPr/>
        </p:nvSpPr>
        <p:spPr>
          <a:xfrm>
            <a:off x="189000" y="7593120"/>
            <a:ext cx="6465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　　　    おん　             き　   　　    とき　    みじか        じ   かん       あん  ぜん　     ば　しょ　 　　い  どう　　　 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44280" y="13064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どのようなことが起きる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5"/>
          <p:cNvSpPr/>
          <p:nvPr/>
        </p:nvSpPr>
        <p:spPr>
          <a:xfrm>
            <a:off x="189000" y="2095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55"/>
          <p:cNvSpPr/>
          <p:nvPr/>
        </p:nvSpPr>
        <p:spPr>
          <a:xfrm>
            <a:off x="260280" y="122400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 お　 　　　　とき　　 　　  　　　　　　 　　　　　　　　　　お 　 　 　　　　　    　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74600" y="175248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"/>
          <p:cNvSpPr/>
          <p:nvPr/>
        </p:nvSpPr>
        <p:spPr>
          <a:xfrm>
            <a:off x="189000" y="1685880"/>
            <a:ext cx="648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4"/>
          <p:cNvSpPr/>
          <p:nvPr/>
        </p:nvSpPr>
        <p:spPr>
          <a:xfrm>
            <a:off x="189000" y="604368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4"/>
          <p:cNvSpPr/>
          <p:nvPr/>
        </p:nvSpPr>
        <p:spPr>
          <a:xfrm>
            <a:off x="203040" y="597708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4"/>
          <p:cNvSpPr/>
          <p:nvPr/>
        </p:nvSpPr>
        <p:spPr>
          <a:xfrm>
            <a:off x="189000" y="71229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4"/>
          <p:cNvSpPr/>
          <p:nvPr/>
        </p:nvSpPr>
        <p:spPr>
          <a:xfrm>
            <a:off x="203040" y="70563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4"/>
          <p:cNvSpPr/>
          <p:nvPr/>
        </p:nvSpPr>
        <p:spPr>
          <a:xfrm>
            <a:off x="189000" y="81471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4"/>
          <p:cNvSpPr/>
          <p:nvPr/>
        </p:nvSpPr>
        <p:spPr>
          <a:xfrm>
            <a:off x="203040" y="808020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189000" y="92264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203040" y="915984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4"/>
          <p:cNvSpPr/>
          <p:nvPr/>
        </p:nvSpPr>
        <p:spPr>
          <a:xfrm>
            <a:off x="60480" y="3314880"/>
            <a:ext cx="67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とは、どのようなものか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50"/>
          <p:cNvSpPr/>
          <p:nvPr/>
        </p:nvSpPr>
        <p:spPr>
          <a:xfrm>
            <a:off x="204840" y="335592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                       　　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4"/>
          <p:cNvSpPr/>
          <p:nvPr/>
        </p:nvSpPr>
        <p:spPr>
          <a:xfrm>
            <a:off x="44280" y="23144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正しい身の守り方を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55"/>
          <p:cNvSpPr/>
          <p:nvPr/>
        </p:nvSpPr>
        <p:spPr>
          <a:xfrm>
            <a:off x="260280" y="223200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お　   　　　 とき　  　ただ  　　　 　 み 　　  まも　　   かた     　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7-03-14T05:03:47Z</dcterms:modified>
  <cp:revision>127</cp:revision>
  <dc:subject/>
  <dc:title>スライド 1</dc:title>
</cp:coreProperties>
</file>