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508-780D-4A1B-8ED0-8ED865F1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59A-2F2C-45D0-928E-13E25F3A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91C-1A59-49A9-ACC1-B3C73976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493-9527-4096-9988-0B29BC65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5B3-01B1-4CBC-ADC0-ED58A801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A4D-772F-4858-90CE-A5A24D3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661-324E-4C1F-AFBA-705D4822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9AF-6152-4C36-83A6-6FE0725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046-2462-43CC-8CA0-8FEBD71D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872-6118-455A-A94A-C6E7585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D3E-1615-4385-9D96-E0AF161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688-E7AE-40F2-A36B-EF64005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650-D6B2-4F00-A12B-0C6EB2CE98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71280" y="17604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訓練をふりか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-3240" y="6100920"/>
            <a:ext cx="61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訓練がはじまった時に、どこに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4280" y="6408720"/>
            <a:ext cx="6769440" cy="43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131760" y="55440"/>
            <a:ext cx="11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1052640" y="6018120"/>
            <a:ext cx="2022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　　　　　　　　　　　　　　  と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4"/>
          <p:cNvSpPr/>
          <p:nvPr/>
        </p:nvSpPr>
        <p:spPr>
          <a:xfrm>
            <a:off x="-3240" y="696420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その時、どのように身を守りましたか。なぜ、そうしたのです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63"/>
          <p:cNvSpPr/>
          <p:nvPr/>
        </p:nvSpPr>
        <p:spPr>
          <a:xfrm>
            <a:off x="44280" y="7272360"/>
            <a:ext cx="6769440" cy="266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4"/>
          <p:cNvSpPr/>
          <p:nvPr/>
        </p:nvSpPr>
        <p:spPr>
          <a:xfrm>
            <a:off x="1413000" y="6875640"/>
            <a:ext cx="326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き　　　　　　　　　　　　　　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0" y="1347840"/>
            <a:ext cx="49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4"/>
          <p:cNvSpPr/>
          <p:nvPr/>
        </p:nvSpPr>
        <p:spPr>
          <a:xfrm>
            <a:off x="404640" y="126540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23"/>
          <p:cNvSpPr/>
          <p:nvPr/>
        </p:nvSpPr>
        <p:spPr>
          <a:xfrm>
            <a:off x="5581800" y="9893160"/>
            <a:ext cx="114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4280" y="1722600"/>
            <a:ext cx="671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発生（接近）の放送を、だまって静かに聞く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280" y="25988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発生（接近）の放送を聞いた時、何をしたらよいか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自分で考える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"/>
          <p:cNvSpPr/>
          <p:nvPr/>
        </p:nvSpPr>
        <p:spPr>
          <a:xfrm>
            <a:off x="44280" y="3444840"/>
            <a:ext cx="63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安全に身を守る行動が、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自分で考えて、すばやく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44280" y="4329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全な場所に移動する時、「お・か・し・も・ち」のルールが守れ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"/>
          <p:cNvSpPr/>
          <p:nvPr/>
        </p:nvSpPr>
        <p:spPr>
          <a:xfrm>
            <a:off x="44280" y="20988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06"/>
          <p:cNvSpPr/>
          <p:nvPr/>
        </p:nvSpPr>
        <p:spPr>
          <a:xfrm>
            <a:off x="44280" y="22320"/>
            <a:ext cx="2737080" cy="55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3"/>
          <p:cNvSpPr/>
          <p:nvPr/>
        </p:nvSpPr>
        <p:spPr>
          <a:xfrm>
            <a:off x="1862280" y="9000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0"/>
          <p:cNvSpPr/>
          <p:nvPr/>
        </p:nvSpPr>
        <p:spPr>
          <a:xfrm>
            <a:off x="2232000" y="822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23"/>
          <p:cNvSpPr/>
          <p:nvPr/>
        </p:nvSpPr>
        <p:spPr>
          <a:xfrm>
            <a:off x="5340240" y="2376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対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後学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116"/>
          <p:cNvSpPr/>
          <p:nvPr/>
        </p:nvSpPr>
        <p:spPr>
          <a:xfrm>
            <a:off x="44280" y="1650960"/>
            <a:ext cx="6769440" cy="346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線コネクタ 118"/>
          <p:cNvSpPr/>
          <p:nvPr/>
        </p:nvSpPr>
        <p:spPr>
          <a:xfrm>
            <a:off x="71280" y="251460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0"/>
          <p:cNvSpPr/>
          <p:nvPr/>
        </p:nvSpPr>
        <p:spPr>
          <a:xfrm>
            <a:off x="260280" y="1682640"/>
            <a:ext cx="5041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はっせい　　　 せっきん　　　   　  ほうそう　　　 　　　　　　　　　　　  しず　　　　　  き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0"/>
          <p:cNvSpPr/>
          <p:nvPr/>
        </p:nvSpPr>
        <p:spPr>
          <a:xfrm>
            <a:off x="276120" y="25686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はっせい　　　 せっきん　　　  　　ほうそう　　    き　　 　　　  とき        なに　　　　　　　　　　　　　　　　   　じぶん　　　かん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0"/>
          <p:cNvSpPr/>
          <p:nvPr/>
        </p:nvSpPr>
        <p:spPr>
          <a:xfrm>
            <a:off x="303120" y="341136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　　 あんぜん　　     み　 　　まも　　　こうどう　　　　　　じぶん　　 　かんが　　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0"/>
          <p:cNvSpPr/>
          <p:nvPr/>
        </p:nvSpPr>
        <p:spPr>
          <a:xfrm>
            <a:off x="260280" y="42894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んぜん　　　  ばしょ  　　　   いどう　　　　　  とき　　　　　　　　　　　 　　　　　　　　　　　　　　　　　　　　　　　　  　　　 　　まも　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線コネクタ 130"/>
          <p:cNvSpPr/>
          <p:nvPr/>
        </p:nvSpPr>
        <p:spPr>
          <a:xfrm>
            <a:off x="71280" y="337824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線コネクタ 131"/>
          <p:cNvSpPr/>
          <p:nvPr/>
        </p:nvSpPr>
        <p:spPr>
          <a:xfrm>
            <a:off x="71280" y="4243320"/>
            <a:ext cx="674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44280" y="296388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4280" y="382752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44280" y="469116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-3240" y="52372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竜巻発生（接近）の放送を聞いた時、竜巻はどのあたりにいると思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9"/>
          <p:cNvSpPr/>
          <p:nvPr/>
        </p:nvSpPr>
        <p:spPr>
          <a:xfrm>
            <a:off x="44280" y="5543640"/>
            <a:ext cx="6769440" cy="439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34"/>
          <p:cNvSpPr/>
          <p:nvPr/>
        </p:nvSpPr>
        <p:spPr>
          <a:xfrm>
            <a:off x="333360" y="5154480"/>
            <a:ext cx="633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はっせい　　 　せっきん　　　　　 ほうそう　　 　き　　　　　 とき　　　たつまき　　　　　　　　　　　　　　　　　　　　　　  　お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42840" y="5627520"/>
            <a:ext cx="67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のすごく近いところ　・　少し離れたところ　・　遠いところ　・　わからなか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0"/>
          <p:cNvSpPr/>
          <p:nvPr/>
        </p:nvSpPr>
        <p:spPr>
          <a:xfrm>
            <a:off x="1052640" y="5560920"/>
            <a:ext cx="431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ちか　　 　　　　　　　　　　　　　　　すこ　　  はな　　　　　　　　　　　　　　　　　　　  とお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線コネクタ 54"/>
          <p:cNvSpPr/>
          <p:nvPr/>
        </p:nvSpPr>
        <p:spPr>
          <a:xfrm>
            <a:off x="69840" y="8569440"/>
            <a:ext cx="674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12"/>
          <p:cNvSpPr/>
          <p:nvPr/>
        </p:nvSpPr>
        <p:spPr>
          <a:xfrm>
            <a:off x="154080" y="7272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どの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56"/>
          <p:cNvSpPr/>
          <p:nvPr/>
        </p:nvSpPr>
        <p:spPr>
          <a:xfrm>
            <a:off x="102960" y="8569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05-19T05:03:03Z</cp:lastPrinted>
  <dcterms:modified xsi:type="dcterms:W3CDTF">2016-05-23T02:01:56Z</dcterms:modified>
  <cp:revision>108</cp:revision>
  <dc:subject/>
  <dc:title>スライド 1</dc:title>
</cp:coreProperties>
</file>