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7234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39440"/>
            <a:ext cx="261144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1F6C-55FE-4895-9934-2C305ABBEC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062080" y="739800"/>
            <a:ext cx="2611440" cy="37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4659-13DA-4CD5-A417-1B3DEF70A5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062080" y="739800"/>
            <a:ext cx="261144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00DD-A608-4FB5-9F84-72567BED03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CF3-7CBE-467C-A708-18AB030B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AEE-7F91-4EE8-A7B5-ADBAAB74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DA5-791F-4EE9-A6EE-D55387CF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26836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619600"/>
            <a:ext cx="1987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4D5-98BA-482F-AC6E-9C20D581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E5E-88D2-4FA6-A02A-D8396B7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C9F-7449-44F7-A45E-1366D9A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DDD-FE1D-4988-8C14-AF2FF609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1A1-D11F-420B-9C70-9BF563FB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0600"/>
            <a:ext cx="61722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DD4-88E7-40BD-8A0C-A23CAE8F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1A9-CC62-43CA-ADAE-7CF965A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61960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951-2B51-4E5E-979C-ACBB977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268360"/>
            <a:ext cx="301176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619600"/>
            <a:ext cx="6172200" cy="306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5C1-6A2E-402C-844C-947D45E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0600"/>
            <a:ext cx="61722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68360"/>
            <a:ext cx="6172200" cy="64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0440"/>
            <a:ext cx="21715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0440"/>
            <a:ext cx="1600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8D98-F36C-4EEE-A009-212B921D74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4280" y="7494480"/>
          <a:ext cx="6769440" cy="114948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94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280" y="5921280"/>
          <a:ext cx="6769440" cy="114300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30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4280" y="4299120"/>
          <a:ext cx="6769440" cy="116352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11635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4280" y="1547640"/>
          <a:ext cx="6769440" cy="230508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23050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14" descr="\\yohousv\班・係\防災班\調査係\印刷物原稿\新規リーフレット（H24作成）\イラスト\13_Tornado.jpg"/>
          <p:cNvPicPr/>
          <p:nvPr/>
        </p:nvPicPr>
        <p:blipFill>
          <a:blip r:embed="rId1"/>
          <a:stretch/>
        </p:blipFill>
        <p:spPr>
          <a:xfrm>
            <a:off x="38160" y="1546200"/>
            <a:ext cx="12938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正方形/長方形 23"/>
          <p:cNvSpPr/>
          <p:nvPr/>
        </p:nvSpPr>
        <p:spPr>
          <a:xfrm>
            <a:off x="5187960" y="9540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3"/>
          <p:cNvSpPr/>
          <p:nvPr/>
        </p:nvSpPr>
        <p:spPr>
          <a:xfrm>
            <a:off x="44280" y="1494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の正体を知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8"/>
          <p:cNvSpPr/>
          <p:nvPr/>
        </p:nvSpPr>
        <p:spPr>
          <a:xfrm>
            <a:off x="90360" y="63360"/>
            <a:ext cx="25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　     しょうたい　　     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52"/>
          <p:cNvSpPr/>
          <p:nvPr/>
        </p:nvSpPr>
        <p:spPr>
          <a:xfrm>
            <a:off x="0" y="0"/>
            <a:ext cx="278136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40"/>
          <p:cNvSpPr/>
          <p:nvPr/>
        </p:nvSpPr>
        <p:spPr>
          <a:xfrm>
            <a:off x="237492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0"/>
          <p:cNvSpPr/>
          <p:nvPr/>
        </p:nvSpPr>
        <p:spPr>
          <a:xfrm>
            <a:off x="1434960" y="1836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1"/>
          <p:cNvSpPr/>
          <p:nvPr/>
        </p:nvSpPr>
        <p:spPr>
          <a:xfrm>
            <a:off x="2414520" y="1852560"/>
            <a:ext cx="439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発生源である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積乱雲（入道雲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視覚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-85680" y="1209600"/>
            <a:ext cx="67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はどんな姿をしてい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7"/>
          <p:cNvSpPr/>
          <p:nvPr/>
        </p:nvSpPr>
        <p:spPr>
          <a:xfrm>
            <a:off x="184320" y="1147680"/>
            <a:ext cx="6048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     　　　　　　　　　  すがた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3"/>
          <p:cNvSpPr/>
          <p:nvPr/>
        </p:nvSpPr>
        <p:spPr>
          <a:xfrm>
            <a:off x="1432080" y="4789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36"/>
          <p:cNvSpPr/>
          <p:nvPr/>
        </p:nvSpPr>
        <p:spPr>
          <a:xfrm>
            <a:off x="2421000" y="4522680"/>
            <a:ext cx="43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によって起こる様々な被害を理解する。「大きな竜巻では、被害が大きくなり、命に関わるような災害になること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37"/>
          <p:cNvSpPr/>
          <p:nvPr/>
        </p:nvSpPr>
        <p:spPr>
          <a:xfrm>
            <a:off x="1440000" y="5005440"/>
            <a:ext cx="53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の補足：　１）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飛んできた物でガラスが割れる、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）屋根や物置が飛ばされる、３）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建物や電柱、大きな木や看板、自動販売機が倒れ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、４）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車がひっくり返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、５）人間も飛ばされる、６）停電する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被害の範囲は、数キロから数十キロに及ぶこともあ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0"/>
          <p:cNvSpPr/>
          <p:nvPr/>
        </p:nvSpPr>
        <p:spPr>
          <a:xfrm>
            <a:off x="1432080" y="4514760"/>
            <a:ext cx="117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"/>
          <p:cNvSpPr/>
          <p:nvPr/>
        </p:nvSpPr>
        <p:spPr>
          <a:xfrm>
            <a:off x="-11160" y="3962520"/>
            <a:ext cx="61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よって、どんな被害が起き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37"/>
          <p:cNvSpPr/>
          <p:nvPr/>
        </p:nvSpPr>
        <p:spPr>
          <a:xfrm>
            <a:off x="227160" y="3882960"/>
            <a:ext cx="561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　            　　　　　　 　　　　　　　　ひがい 　　　 　お　　　　　　 　　　  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0"/>
          <p:cNvSpPr/>
          <p:nvPr/>
        </p:nvSpPr>
        <p:spPr>
          <a:xfrm>
            <a:off x="1413000" y="77756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1"/>
          <p:cNvSpPr/>
          <p:nvPr/>
        </p:nvSpPr>
        <p:spPr>
          <a:xfrm>
            <a:off x="2411280" y="7800840"/>
            <a:ext cx="405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が発生する予兆（気象）現象を理解し、視覚的に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3"/>
          <p:cNvSpPr/>
          <p:nvPr/>
        </p:nvSpPr>
        <p:spPr>
          <a:xfrm>
            <a:off x="1422360" y="79804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37"/>
          <p:cNvSpPr/>
          <p:nvPr/>
        </p:nvSpPr>
        <p:spPr>
          <a:xfrm>
            <a:off x="2421000" y="8010360"/>
            <a:ext cx="424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空を観察して、天気の変化を予測することの大切さ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36"/>
          <p:cNvSpPr/>
          <p:nvPr/>
        </p:nvSpPr>
        <p:spPr>
          <a:xfrm>
            <a:off x="2421000" y="4808520"/>
            <a:ext cx="430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によって起こる被害の範囲を理解・イメージ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0"/>
          <p:cNvSpPr/>
          <p:nvPr/>
        </p:nvSpPr>
        <p:spPr>
          <a:xfrm>
            <a:off x="1434960" y="2052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1"/>
          <p:cNvSpPr/>
          <p:nvPr/>
        </p:nvSpPr>
        <p:spPr>
          <a:xfrm>
            <a:off x="2414520" y="2070000"/>
            <a:ext cx="412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の特徴を理解する。竜巻とつむじ風の違い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37"/>
          <p:cNvSpPr/>
          <p:nvPr/>
        </p:nvSpPr>
        <p:spPr>
          <a:xfrm>
            <a:off x="1434960" y="2776680"/>
            <a:ext cx="5378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１の補足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１）ろうと状の雲になっている（積乱雲から垂れ下がる）、２）物やごみが巻き上げられ飛んで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つむじ風は、晴天の日にうずまくように起きる強い風で竜巻ではない。テントなどを巻き上げる危険があ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２の補足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１）土煙が近づいてくる（動いてくる）　、２）「ゴーッ」という音がする、３）耳鳴りがする（耳が痛い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３の補足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１）竜巻の平均速度は時速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km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（自動車くらい）、大きな竜巻は時速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km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（特急電車）くらいの速さで移動す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２）大きな竜巻の周囲で小さな竜巻が発生することがある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は短時間で通過する、見ていると危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40"/>
          <p:cNvSpPr/>
          <p:nvPr/>
        </p:nvSpPr>
        <p:spPr>
          <a:xfrm>
            <a:off x="1413000" y="61992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41"/>
          <p:cNvSpPr/>
          <p:nvPr/>
        </p:nvSpPr>
        <p:spPr>
          <a:xfrm>
            <a:off x="2446200" y="6475320"/>
            <a:ext cx="434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天気予報や気象情報を入手し、気象の変化を理解して行動する習慣を身に付けさせ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3"/>
          <p:cNvSpPr/>
          <p:nvPr/>
        </p:nvSpPr>
        <p:spPr>
          <a:xfrm>
            <a:off x="1422360" y="64450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37"/>
          <p:cNvSpPr/>
          <p:nvPr/>
        </p:nvSpPr>
        <p:spPr>
          <a:xfrm>
            <a:off x="2433600" y="6229440"/>
            <a:ext cx="43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積乱雲や竜巻の発生が予想される時、天気予報で伝えるキーワード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6" descr=""/>
          <p:cNvPicPr/>
          <p:nvPr/>
        </p:nvPicPr>
        <p:blipFill>
          <a:blip r:embed="rId2"/>
          <a:stretch/>
        </p:blipFill>
        <p:spPr>
          <a:xfrm>
            <a:off x="87480" y="6013440"/>
            <a:ext cx="1253880" cy="981000"/>
          </a:xfrm>
          <a:prstGeom prst="rect">
            <a:avLst/>
          </a:prstGeom>
          <a:ln w="0">
            <a:noFill/>
          </a:ln>
        </p:spPr>
      </p:pic>
      <p:sp>
        <p:nvSpPr>
          <p:cNvPr id="83" name="テキスト ボックス 37"/>
          <p:cNvSpPr/>
          <p:nvPr/>
        </p:nvSpPr>
        <p:spPr>
          <a:xfrm>
            <a:off x="1407960" y="8267760"/>
            <a:ext cx="54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の補足：　１）竜巻の予兆現象「低く黒い雲（積乱雲）が接近する、雷（雷光が見えたり雷鳴が聞こえる）、急に冷たい風が吹き出す、急な雨やひょうが降る」などの気象現象が発生す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-60480" y="5576760"/>
            <a:ext cx="67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を事前に知るには、どうしたらよいで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37"/>
          <p:cNvSpPr/>
          <p:nvPr/>
        </p:nvSpPr>
        <p:spPr>
          <a:xfrm>
            <a:off x="189000" y="5508720"/>
            <a:ext cx="3774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  　   はっせい　　 　　　　　　　  　　  てんき　　　　　 じぜん　 　　 　し　　　　　　 　　　  　　　　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4"/>
          <p:cNvSpPr/>
          <p:nvPr/>
        </p:nvSpPr>
        <p:spPr>
          <a:xfrm>
            <a:off x="-68400" y="7164360"/>
            <a:ext cx="67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には、どのようなことに気をつければよいです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37"/>
          <p:cNvSpPr/>
          <p:nvPr/>
        </p:nvSpPr>
        <p:spPr>
          <a:xfrm>
            <a:off x="192240" y="7093080"/>
            <a:ext cx="613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はっせい　　 　　　   　　　　   てんき　　　　　　　 　　　　　　　　　　　　　　　　　　　　　　き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37"/>
          <p:cNvSpPr/>
          <p:nvPr/>
        </p:nvSpPr>
        <p:spPr>
          <a:xfrm>
            <a:off x="1413000" y="6711840"/>
            <a:ext cx="54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学習ポイントの補足：　１）竜巻キーワード「大気の状態が不安定（積乱雲の発達）・天気の急変に注意 （急な大雨、雷、ひょう）・突風や竜巻に注意」２）気象情報「竜巻注意情報、雷注意報」、３）ニュースやインターネットなどで気象情報を入手でき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4"/>
          <p:cNvSpPr/>
          <p:nvPr/>
        </p:nvSpPr>
        <p:spPr>
          <a:xfrm>
            <a:off x="12600" y="9253440"/>
            <a:ext cx="68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なぜ怖いのか、竜巻に気づくためにはどうしたらよいのか復習しましょ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37"/>
          <p:cNvSpPr/>
          <p:nvPr/>
        </p:nvSpPr>
        <p:spPr>
          <a:xfrm>
            <a:off x="19080" y="9204480"/>
            <a:ext cx="613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　　　    こわ　 　　    　　　　   たつまき　  　  き　　　　　　　　　　　　　　  　　　　　　　　　　　　　　　　　　　　　ふくしゅう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19"/>
          <p:cNvSpPr/>
          <p:nvPr/>
        </p:nvSpPr>
        <p:spPr>
          <a:xfrm>
            <a:off x="85680" y="8796240"/>
            <a:ext cx="8222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C:\Users\JMA6100\Desktop\和泉小学校資料\イラスト(完成データから切り出し）\07_Gust.jpg"/>
          <p:cNvPicPr/>
          <p:nvPr/>
        </p:nvPicPr>
        <p:blipFill>
          <a:blip r:embed="rId3"/>
          <a:stretch/>
        </p:blipFill>
        <p:spPr>
          <a:xfrm>
            <a:off x="46080" y="7496280"/>
            <a:ext cx="1278000" cy="116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2" descr="C:\Users\JMA1F80\Desktop\__ 1.png"/>
          <p:cNvPicPr/>
          <p:nvPr/>
        </p:nvPicPr>
        <p:blipFill>
          <a:blip r:embed="rId4"/>
          <a:stretch/>
        </p:blipFill>
        <p:spPr>
          <a:xfrm>
            <a:off x="19080" y="2700360"/>
            <a:ext cx="1278000" cy="1141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50760" y="4302000"/>
            <a:ext cx="1273320" cy="1135080"/>
          </a:xfrm>
          <a:prstGeom prst="rect">
            <a:avLst/>
          </a:prstGeom>
          <a:ln w="0">
            <a:noFill/>
          </a:ln>
        </p:spPr>
      </p:pic>
      <p:sp>
        <p:nvSpPr>
          <p:cNvPr id="95" name="テキスト ボックス 40"/>
          <p:cNvSpPr/>
          <p:nvPr/>
        </p:nvSpPr>
        <p:spPr>
          <a:xfrm>
            <a:off x="1434960" y="2268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学習のポイント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41"/>
          <p:cNvSpPr/>
          <p:nvPr/>
        </p:nvSpPr>
        <p:spPr>
          <a:xfrm>
            <a:off x="2414520" y="2286000"/>
            <a:ext cx="412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竜巻の移動するスピードはとても速く、竜巻の大きさによって早さが異なる（一定ではない）ことを理解・イメージする。大きな積乱雲の下では、竜巻が複数発生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つだけではない）する場合があることを理解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61"/>
          <p:cNvSpPr/>
          <p:nvPr/>
        </p:nvSpPr>
        <p:spPr>
          <a:xfrm>
            <a:off x="1341360" y="154764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大きな積乱雲（入道雲）の下で発生する、はげしい空気のうずま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62"/>
          <p:cNvSpPr/>
          <p:nvPr/>
        </p:nvSpPr>
        <p:spPr>
          <a:xfrm>
            <a:off x="1341360" y="42958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いろいろな物が飛んできて、建物（窓やかべ）をこわす。な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63"/>
          <p:cNvSpPr/>
          <p:nvPr/>
        </p:nvSpPr>
        <p:spPr>
          <a:xfrm>
            <a:off x="1339920" y="594036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（朝の）天気予報を見る。ニュースや気象情報に注意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64"/>
          <p:cNvSpPr/>
          <p:nvPr/>
        </p:nvSpPr>
        <p:spPr>
          <a:xfrm>
            <a:off x="1341360" y="74962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答例）　</a:t>
            </a: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空の様子や、周りの変化に注意して行動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4280" y="5921280"/>
          <a:ext cx="6769440" cy="114300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300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14" descr="\\yohousv\班・係\防災班\調査係\印刷物原稿\新規リーフレット（H24作成）\イラスト\13_Tornado.jpg"/>
          <p:cNvPicPr/>
          <p:nvPr/>
        </p:nvPicPr>
        <p:blipFill>
          <a:blip r:embed="rId1"/>
          <a:stretch/>
        </p:blipFill>
        <p:spPr>
          <a:xfrm>
            <a:off x="38160" y="1546200"/>
            <a:ext cx="1293840" cy="1154160"/>
          </a:xfrm>
          <a:prstGeom prst="rect">
            <a:avLst/>
          </a:prstGeom>
          <a:ln w="0">
            <a:noFill/>
          </a:ln>
        </p:spPr>
      </p:pic>
      <p:sp>
        <p:nvSpPr>
          <p:cNvPr id="103" name="正方形/長方形 23"/>
          <p:cNvSpPr/>
          <p:nvPr/>
        </p:nvSpPr>
        <p:spPr>
          <a:xfrm>
            <a:off x="5187960" y="9540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"/>
          <p:cNvSpPr/>
          <p:nvPr/>
        </p:nvSpPr>
        <p:spPr>
          <a:xfrm>
            <a:off x="44280" y="1494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の正体を知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48"/>
          <p:cNvSpPr/>
          <p:nvPr/>
        </p:nvSpPr>
        <p:spPr>
          <a:xfrm>
            <a:off x="90360" y="63360"/>
            <a:ext cx="25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　     しょうたい　　     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正方形/長方形 52"/>
          <p:cNvSpPr/>
          <p:nvPr/>
        </p:nvSpPr>
        <p:spPr>
          <a:xfrm>
            <a:off x="0" y="0"/>
            <a:ext cx="2781360" cy="57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正方形/長方形 23"/>
          <p:cNvSpPr/>
          <p:nvPr/>
        </p:nvSpPr>
        <p:spPr>
          <a:xfrm>
            <a:off x="5434920" y="22320"/>
            <a:ext cx="128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竜巻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前学習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3"/>
          <p:cNvSpPr/>
          <p:nvPr/>
        </p:nvSpPr>
        <p:spPr>
          <a:xfrm>
            <a:off x="2006640" y="808200"/>
            <a:ext cx="49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 組　　 番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0"/>
          <p:cNvSpPr/>
          <p:nvPr/>
        </p:nvSpPr>
        <p:spPr>
          <a:xfrm>
            <a:off x="2374920" y="7142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        くみ　　       　 ばん　       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4"/>
          <p:cNvSpPr/>
          <p:nvPr/>
        </p:nvSpPr>
        <p:spPr>
          <a:xfrm>
            <a:off x="-85680" y="1209600"/>
            <a:ext cx="67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はどんな姿をしてい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37"/>
          <p:cNvSpPr/>
          <p:nvPr/>
        </p:nvSpPr>
        <p:spPr>
          <a:xfrm>
            <a:off x="184320" y="1147680"/>
            <a:ext cx="6048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      　　　　　　　　　  すがた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4"/>
          <p:cNvSpPr/>
          <p:nvPr/>
        </p:nvSpPr>
        <p:spPr>
          <a:xfrm>
            <a:off x="-11160" y="3962520"/>
            <a:ext cx="61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によって、どんな被害が起きま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7"/>
          <p:cNvSpPr/>
          <p:nvPr/>
        </p:nvSpPr>
        <p:spPr>
          <a:xfrm>
            <a:off x="227160" y="3882960"/>
            <a:ext cx="561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　　            　　　　　　 　　　　　　　　ひがい 　　　 　お　　　　　　 　　　  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6" descr=""/>
          <p:cNvPicPr/>
          <p:nvPr/>
        </p:nvPicPr>
        <p:blipFill>
          <a:blip r:embed="rId2"/>
          <a:stretch/>
        </p:blipFill>
        <p:spPr>
          <a:xfrm>
            <a:off x="87480" y="6013440"/>
            <a:ext cx="1253880" cy="981000"/>
          </a:xfrm>
          <a:prstGeom prst="rect">
            <a:avLst/>
          </a:prstGeom>
          <a:ln w="0">
            <a:noFill/>
          </a:ln>
        </p:spPr>
      </p:pic>
      <p:sp>
        <p:nvSpPr>
          <p:cNvPr id="115" name="テキスト ボックス 4"/>
          <p:cNvSpPr/>
          <p:nvPr/>
        </p:nvSpPr>
        <p:spPr>
          <a:xfrm>
            <a:off x="-60480" y="5576760"/>
            <a:ext cx="67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を事前に知るには、どうしたらよいです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189000" y="5508720"/>
            <a:ext cx="3774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  　   はっせい　　 　　　　　　　  　　  てんき　　　　　 じぜん　 　　 　し　　　　　　 　　　  　　　　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4"/>
          <p:cNvSpPr/>
          <p:nvPr/>
        </p:nvSpPr>
        <p:spPr>
          <a:xfrm>
            <a:off x="-68400" y="7164360"/>
            <a:ext cx="67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.</a:t>
            </a:r>
            <a:r>
              <a:rPr b="1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発生しやすい天気には、どのようなことに気をつければよいです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37"/>
          <p:cNvSpPr/>
          <p:nvPr/>
        </p:nvSpPr>
        <p:spPr>
          <a:xfrm>
            <a:off x="192240" y="7093080"/>
            <a:ext cx="6134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はっせい　　 　　　   　　　　   てんき　　　　　　　 　　　　　　　　　　　　　　　　　　　　　　き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4"/>
          <p:cNvSpPr/>
          <p:nvPr/>
        </p:nvSpPr>
        <p:spPr>
          <a:xfrm>
            <a:off x="12600" y="9253440"/>
            <a:ext cx="68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なぜ怖いのか、竜巻に気づくためにはどうしたらよいのか復習しましょう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37"/>
          <p:cNvSpPr/>
          <p:nvPr/>
        </p:nvSpPr>
        <p:spPr>
          <a:xfrm>
            <a:off x="19080" y="9204480"/>
            <a:ext cx="613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　　　  　　　    こわ　 　　    　　　　   たつまき　  　  き　　　　　　　　　　　　　　  　　　　　　　　　　　　　　　　　　　　　ふくしゅう　　　　　　 　　　  　　　　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19"/>
          <p:cNvSpPr/>
          <p:nvPr/>
        </p:nvSpPr>
        <p:spPr>
          <a:xfrm>
            <a:off x="85680" y="8796240"/>
            <a:ext cx="8222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と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C:\Users\JMA6100\Desktop\和泉小学校資料\イラスト(完成データから切り出し）\07_Gust.jpg"/>
          <p:cNvPicPr/>
          <p:nvPr/>
        </p:nvPicPr>
        <p:blipFill>
          <a:blip r:embed="rId3"/>
          <a:stretch/>
        </p:blipFill>
        <p:spPr>
          <a:xfrm>
            <a:off x="46080" y="7496280"/>
            <a:ext cx="1278000" cy="1160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2" descr="C:\Users\JMA1F80\Desktop\__ 1.png"/>
          <p:cNvPicPr/>
          <p:nvPr/>
        </p:nvPicPr>
        <p:blipFill>
          <a:blip r:embed="rId4"/>
          <a:stretch/>
        </p:blipFill>
        <p:spPr>
          <a:xfrm>
            <a:off x="19080" y="2700360"/>
            <a:ext cx="1278000" cy="1141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5"/>
          <a:stretch/>
        </p:blipFill>
        <p:spPr>
          <a:xfrm>
            <a:off x="50760" y="4302000"/>
            <a:ext cx="1273320" cy="11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44280" y="7494480"/>
          <a:ext cx="6769440" cy="1149480"/>
        </p:xfrm>
        <a:graphic>
          <a:graphicData uri="http://schemas.openxmlformats.org/drawingml/2006/table">
            <a:tbl>
              <a:tblPr/>
              <a:tblGrid>
                <a:gridCol w="1295640"/>
                <a:gridCol w="5473800"/>
              </a:tblGrid>
              <a:tr h="11494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4280" y="4299120"/>
          <a:ext cx="6769440" cy="116352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116352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4280" y="1547640"/>
          <a:ext cx="6769440" cy="2305080"/>
        </p:xfrm>
        <a:graphic>
          <a:graphicData uri="http://schemas.openxmlformats.org/drawingml/2006/table">
            <a:tbl>
              <a:tblPr/>
              <a:tblGrid>
                <a:gridCol w="1297080"/>
                <a:gridCol w="5472360"/>
              </a:tblGrid>
              <a:tr h="2305080"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6-12-21T10:05:28Z</cp:lastPrinted>
  <dcterms:modified xsi:type="dcterms:W3CDTF">2016-12-21T10:08:44Z</dcterms:modified>
  <cp:revision>303</cp:revision>
  <dc:subject/>
  <dc:title>スライド 1</dc:title>
</cp:coreProperties>
</file>