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9320" y="1233360"/>
            <a:ext cx="249696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8A8-A105-46E3-AC1F-EF5B8DF7D4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19320" y="1233360"/>
            <a:ext cx="2496960" cy="33292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0188-9F26-4E8C-8359-B1F3C50C79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DA5-B8E5-4EE7-9C64-A40D5610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E45-6002-4A70-B7EA-ABC19868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B3A-28B9-4980-8A2D-6B2DDF4D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FD1-4C9B-4194-B593-8A6308FE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A67-374F-422A-B884-A57113E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F16-7AA3-47B6-A202-F1A25D35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90D-7E50-4098-B513-18DA6479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C78-714A-4E00-AC2F-B956B2C6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2FB-8D98-4DB4-96EF-A3DBC7D6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312-3958-42F0-A792-0C453E1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11E-8283-4B6A-9234-5215758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AD6-EF10-4B37-96D8-EC3A832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803B-FE35-4CB8-A497-76626B88C9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36"/>
          <p:cNvSpPr/>
          <p:nvPr/>
        </p:nvSpPr>
        <p:spPr>
          <a:xfrm>
            <a:off x="44280" y="6708600"/>
            <a:ext cx="6786720" cy="2256120"/>
          </a:xfrm>
          <a:prstGeom prst="rect">
            <a:avLst/>
          </a:prstGeom>
          <a:solidFill>
            <a:srgbClr val="dcffd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4"/>
          <p:cNvSpPr/>
          <p:nvPr/>
        </p:nvSpPr>
        <p:spPr>
          <a:xfrm>
            <a:off x="44280" y="4140360"/>
            <a:ext cx="6786720" cy="2160360"/>
          </a:xfrm>
          <a:prstGeom prst="rect">
            <a:avLst/>
          </a:prstGeom>
          <a:solidFill>
            <a:srgbClr val="e1e1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0" y="6480"/>
            <a:ext cx="685800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竜巻防災教育プログラム </a:t>
            </a: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『</a:t>
            </a:r>
            <a:r>
              <a:rPr b="0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単元構成</a:t>
            </a: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5"/>
          <p:cNvSpPr/>
          <p:nvPr/>
        </p:nvSpPr>
        <p:spPr>
          <a:xfrm>
            <a:off x="44280" y="1741320"/>
            <a:ext cx="6786720" cy="2038680"/>
          </a:xfrm>
          <a:prstGeom prst="rect">
            <a:avLst/>
          </a:prstGeom>
          <a:solidFill>
            <a:srgbClr val="fde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189000" y="1525680"/>
            <a:ext cx="2808360" cy="49068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１ ・・・ 事前学習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189000" y="3924360"/>
            <a:ext cx="2879640" cy="490680"/>
          </a:xfrm>
          <a:prstGeom prst="horizontalScroll">
            <a:avLst>
              <a:gd name="adj" fmla="val 12500"/>
            </a:avLst>
          </a:prstGeom>
          <a:solidFill>
            <a:srgbClr val="b3b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２ ・・・ 事前学習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15920" y="636480"/>
            <a:ext cx="6642000" cy="34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70c0"/>
                </a:solidFill>
                <a:latin typeface="HG丸ｺﾞｼｯｸM-PRO"/>
                <a:ea typeface="HG丸ｺﾞｼｯｸM-PRO"/>
              </a:rPr>
              <a:t>竜巻が発生しやすい気象現象（前兆現象）や竜巻がもたらす被害・影響等について正しい知識を習得し、竜巻発生を認知した際の適切な判断、迅速な対応行動を、</a:t>
            </a:r>
            <a:r>
              <a:rPr b="0" lang="en-US" sz="1400" spc="-1" strike="noStrike">
                <a:solidFill>
                  <a:srgbClr val="0070c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400" spc="-1" strike="noStrike">
                <a:solidFill>
                  <a:srgbClr val="0070c0"/>
                </a:solidFill>
                <a:latin typeface="HG丸ｺﾞｼｯｸM-PRO"/>
                <a:ea typeface="HG丸ｺﾞｼｯｸM-PRO"/>
              </a:rPr>
              <a:t>ステップで実践することにより、竜巻への対応能力を向上させ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9"/>
          <p:cNvSpPr/>
          <p:nvPr/>
        </p:nvSpPr>
        <p:spPr>
          <a:xfrm>
            <a:off x="1268280" y="248436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竜巻自体の特徴および被害・影響を知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竜巻発生に関する情報収集の仕方、予兆の特徴を知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3"/>
          <p:cNvSpPr/>
          <p:nvPr/>
        </p:nvSpPr>
        <p:spPr>
          <a:xfrm>
            <a:off x="1268280" y="4884840"/>
            <a:ext cx="532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それぞれの場所での、竜巻からの適切な身の守り方を学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竜巻の接近に応じた、適切な対応・避難行動を理解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竜巻に気付いた時に、してはいけないことを学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1"/>
          <p:cNvSpPr/>
          <p:nvPr/>
        </p:nvSpPr>
        <p:spPr>
          <a:xfrm>
            <a:off x="189000" y="2484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7"/>
          <p:cNvSpPr/>
          <p:nvPr/>
        </p:nvSpPr>
        <p:spPr>
          <a:xfrm>
            <a:off x="1268280" y="2050920"/>
            <a:ext cx="46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竜巻がなぜ怖いのか、その正体を知ろ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11"/>
          <p:cNvSpPr/>
          <p:nvPr/>
        </p:nvSpPr>
        <p:spPr>
          <a:xfrm>
            <a:off x="189000" y="20937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30"/>
          <p:cNvSpPr/>
          <p:nvPr/>
        </p:nvSpPr>
        <p:spPr>
          <a:xfrm>
            <a:off x="1268280" y="4475160"/>
            <a:ext cx="49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竜巻から自分の身を守る方法を考えよ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1"/>
          <p:cNvSpPr/>
          <p:nvPr/>
        </p:nvSpPr>
        <p:spPr>
          <a:xfrm>
            <a:off x="189000" y="491184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1"/>
          <p:cNvSpPr/>
          <p:nvPr/>
        </p:nvSpPr>
        <p:spPr>
          <a:xfrm>
            <a:off x="189000" y="449892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1"/>
          <p:cNvSpPr/>
          <p:nvPr/>
        </p:nvSpPr>
        <p:spPr>
          <a:xfrm>
            <a:off x="189000" y="7488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1"/>
          <p:cNvSpPr/>
          <p:nvPr/>
        </p:nvSpPr>
        <p:spPr>
          <a:xfrm>
            <a:off x="189000" y="70851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1"/>
          <p:cNvSpPr/>
          <p:nvPr/>
        </p:nvSpPr>
        <p:spPr>
          <a:xfrm>
            <a:off x="189000" y="297648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指導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1"/>
          <p:cNvSpPr/>
          <p:nvPr/>
        </p:nvSpPr>
        <p:spPr>
          <a:xfrm>
            <a:off x="1268280" y="3009960"/>
            <a:ext cx="537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１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１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11"/>
          <p:cNvSpPr/>
          <p:nvPr/>
        </p:nvSpPr>
        <p:spPr>
          <a:xfrm>
            <a:off x="189000" y="551340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計画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11"/>
          <p:cNvSpPr/>
          <p:nvPr/>
        </p:nvSpPr>
        <p:spPr>
          <a:xfrm>
            <a:off x="1268280" y="5527800"/>
            <a:ext cx="55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２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1"/>
          <p:cNvSpPr/>
          <p:nvPr/>
        </p:nvSpPr>
        <p:spPr>
          <a:xfrm>
            <a:off x="189000" y="8172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指導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1"/>
          <p:cNvSpPr/>
          <p:nvPr/>
        </p:nvSpPr>
        <p:spPr>
          <a:xfrm>
            <a:off x="1268280" y="8142120"/>
            <a:ext cx="522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実践訓練・事後学習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実践訓練プログラム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ショート訓練 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1"/>
          <p:cNvSpPr/>
          <p:nvPr/>
        </p:nvSpPr>
        <p:spPr>
          <a:xfrm>
            <a:off x="1268280" y="7451640"/>
            <a:ext cx="548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竜巻に関する事前学習を生かし、竜巻接近の緊急放送を聞いた時に自分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判断で自分の身を守る対応行動を習得さ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実践訓練（ショート訓練）での自分の対応行動を振り返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0"/>
          <p:cNvSpPr/>
          <p:nvPr/>
        </p:nvSpPr>
        <p:spPr>
          <a:xfrm>
            <a:off x="1268280" y="70722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実際に身を守って、自分の行動を振り返ろ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89000" y="6491160"/>
            <a:ext cx="3693960" cy="49068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３ ・・・実践訓練・事後学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23"/>
          <p:cNvSpPr/>
          <p:nvPr/>
        </p:nvSpPr>
        <p:spPr>
          <a:xfrm>
            <a:off x="5373720" y="8931240"/>
            <a:ext cx="15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下矢印 38"/>
          <p:cNvSpPr/>
          <p:nvPr/>
        </p:nvSpPr>
        <p:spPr>
          <a:xfrm>
            <a:off x="5805360" y="3490920"/>
            <a:ext cx="981360" cy="93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下矢印 43"/>
          <p:cNvSpPr/>
          <p:nvPr/>
        </p:nvSpPr>
        <p:spPr>
          <a:xfrm>
            <a:off x="5805360" y="6156360"/>
            <a:ext cx="98136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3b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11"/>
          <p:cNvSpPr/>
          <p:nvPr/>
        </p:nvSpPr>
        <p:spPr>
          <a:xfrm>
            <a:off x="187200" y="3357720"/>
            <a:ext cx="10098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11"/>
          <p:cNvSpPr/>
          <p:nvPr/>
        </p:nvSpPr>
        <p:spPr>
          <a:xfrm>
            <a:off x="1268280" y="336060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１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・ワークシート・・・「竜巻の正体を知ろう！」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11"/>
          <p:cNvSpPr/>
          <p:nvPr/>
        </p:nvSpPr>
        <p:spPr>
          <a:xfrm>
            <a:off x="189000" y="5892840"/>
            <a:ext cx="10094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11"/>
          <p:cNvSpPr/>
          <p:nvPr/>
        </p:nvSpPr>
        <p:spPr>
          <a:xfrm>
            <a:off x="1270080" y="589608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２・ワークシート・・・「竜巻から自分の身を守ろう！」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11"/>
          <p:cNvSpPr/>
          <p:nvPr/>
        </p:nvSpPr>
        <p:spPr>
          <a:xfrm>
            <a:off x="189000" y="8586720"/>
            <a:ext cx="10094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11"/>
          <p:cNvSpPr/>
          <p:nvPr/>
        </p:nvSpPr>
        <p:spPr>
          <a:xfrm>
            <a:off x="1270080" y="858852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実践訓練・事後学習・ワークシート・・・「訓練をふりかえろう！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4-12-09T00:05:55Z</cp:lastPrinted>
  <dcterms:modified xsi:type="dcterms:W3CDTF">2017-01-24T04:42:26Z</dcterms:modified>
  <cp:revision>153</cp:revision>
  <dc:subject/>
  <dc:title>スライド 1</dc:title>
</cp:coreProperties>
</file>